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06556"/>
        <c:axId val="33587221"/>
      </c:barChart>
      <c:catAx>
        <c:axId val="94106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7221"/>
        <c:crosses val="autoZero"/>
        <c:auto val="1"/>
        <c:lblAlgn val="ctr"/>
        <c:lblOffset val="100"/>
        <c:noMultiLvlLbl val="0"/>
      </c:catAx>
      <c:valAx>
        <c:axId val="33587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06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FF1-6120-4A75-887C-179F2110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C8F-8037-4E09-8B0D-6DF58B6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A96-62E5-46F6-8DA6-8B42D238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062-7208-4D8F-AAA3-E4C68AB2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4DD-EA70-4313-9DE3-583D554D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76B-17AF-4F03-8598-68275AD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FFC-32C7-4A88-99F5-F8A5352A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1A4-73B9-4835-BD8B-A481157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44F-3ED2-4382-A645-B77D7729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031-5CF3-43F4-A53D-CFA53E3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63C-B294-44CD-9389-F68B471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B79-F26F-4EEE-9C50-314F768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6AFEA-1606-4879-84F7-A7C272BDD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