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06666"/>
        <c:axId val="24019121"/>
      </c:barChart>
      <c:catAx>
        <c:axId val="63006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19121"/>
        <c:crosses val="autoZero"/>
        <c:auto val="1"/>
        <c:lblAlgn val="ctr"/>
        <c:lblOffset val="100"/>
        <c:noMultiLvlLbl val="0"/>
      </c:catAx>
      <c:valAx>
        <c:axId val="24019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06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419-854D-46DE-BF29-B1DAFA56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2800-8350-4C32-817A-BBFAAE19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6A86-C7E9-41A7-B595-AD62B7B0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C96-4E59-4A22-9C44-92EF6F7A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922-0371-4EEE-A4E7-3F01D326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F19-73F5-47A5-AB35-865C54AE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F1F-FE44-4446-BDA9-F8725F39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CD5-0870-4AB8-B8D9-BA33632A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EE2-BA9A-49E5-B636-07AA8FFD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8ED-57C1-418D-A493-9E6EB711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9AC-C812-4521-8F96-354EC20D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F64-27CB-43AF-A558-9701DE13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950F2-ABF5-4835-9AA9-54E1C63BCE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