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49214"/>
        <c:axId val="16580486"/>
      </c:barChart>
      <c:catAx>
        <c:axId val="92249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80486"/>
        <c:crosses val="autoZero"/>
        <c:auto val="1"/>
        <c:lblAlgn val="ctr"/>
        <c:lblOffset val="100"/>
        <c:noMultiLvlLbl val="0"/>
      </c:catAx>
      <c:valAx>
        <c:axId val="16580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9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878-42B4-4D0F-A67C-4C669B94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CFA-56A4-4117-A285-EC90595A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92C-21FF-4C6A-93A8-8346B7AC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99E-5016-4A08-BA3C-27F1FA38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4B7-45C5-4990-9815-F5B515C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9BC-2E2D-4696-8A94-CD39827F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EBC-9130-420B-A56A-E671F89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EA2-80BB-404C-B085-CBA18BC2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B7D-DE4A-442E-9AB8-CA48AF3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75F-7D80-4A8E-B7F1-F23BCE9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7DA-B9CF-4DC6-8C72-BAC781A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453-1E37-4E91-9B39-8E167A1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AF82D-DB12-4B11-9FBD-AD9DB8144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