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59877"/>
        <c:axId val="19388435"/>
      </c:barChart>
      <c:catAx>
        <c:axId val="54459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88435"/>
        <c:crosses val="autoZero"/>
        <c:auto val="1"/>
        <c:lblAlgn val="ctr"/>
        <c:lblOffset val="100"/>
        <c:noMultiLvlLbl val="0"/>
      </c:catAx>
      <c:valAx>
        <c:axId val="19388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9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517-06FC-486F-9D46-DD592A94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5F9-A305-4C83-A62B-821985DF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026-E7C6-4CFD-B37C-83DBAA07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D39-F77B-4361-9575-9E743556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E2B-7384-456B-B093-BB5A7655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E39-DA7C-47CB-8792-1801B9B1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AE5-6E26-4173-BE35-8A58ED4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0A5-0D3A-4CD0-B788-7921DD38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E78-1D09-450B-AE43-00AF149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EAF-9E58-4C61-B548-152B7AF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C85-8D69-424E-80DE-B677171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314-F78D-404D-BCCB-F44CDD0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68E01-3711-4076-9AA1-5171A96257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