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50042"/>
        <c:axId val="40872137"/>
      </c:barChart>
      <c:catAx>
        <c:axId val="21150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72137"/>
        <c:crosses val="autoZero"/>
        <c:auto val="1"/>
        <c:lblAlgn val="ctr"/>
        <c:lblOffset val="100"/>
        <c:noMultiLvlLbl val="0"/>
      </c:catAx>
      <c:valAx>
        <c:axId val="40872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0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9928-5599-48B2-B40C-69EC070F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DFE-EF30-4C0D-AC3A-F893B391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928-D741-4B2A-B839-92434579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DB4-C4D8-454F-933E-0098FCEC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3AA-CD7E-40FC-8C5B-8B1CBF04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E82-B7BF-4F9D-BFE6-0EAE41F0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1D1-215C-48BB-A237-F831B20E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2BA-838A-426C-8F4B-7FAC2E2E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EEB-9461-483E-ABD5-570F58A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D1B-D663-4768-B0D5-B0BE2C6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ABF-F421-40F1-A32D-8F75E9F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495-6F25-46CA-943E-10D0C688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46346-22E4-4FBD-B07E-499A934EEB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