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7138"/>
        <c:axId val="39264729"/>
      </c:barChart>
      <c:catAx>
        <c:axId val="71587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4729"/>
        <c:crosses val="autoZero"/>
        <c:auto val="1"/>
        <c:lblAlgn val="ctr"/>
        <c:lblOffset val="100"/>
        <c:noMultiLvlLbl val="0"/>
      </c:catAx>
      <c:valAx>
        <c:axId val="39264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7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D86-B3B3-4B0F-9C62-10A438AA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089-E709-4E5E-ACA5-ADB9A4D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4CD-AE6B-4657-9544-06437696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FAF-7A08-4B53-B726-0CB3F5D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332-D747-4D74-80BD-A9383BA7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C22-157F-4B06-918A-FB3EF8B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373-59E6-4D4E-8D06-2DB5C73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09F-E8CC-40B0-8C3F-64869D26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A92-AB53-410F-8A66-2275115C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8CB-FEFF-433E-A62E-B76B89A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6EE-A3C0-4030-AE07-2CE73EA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344-120E-4B84-ACDD-2FD15A6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5ED54-A7F1-4ADA-B656-6855DAFE95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