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21246"/>
        <c:axId val="98883769"/>
      </c:barChart>
      <c:catAx>
        <c:axId val="87821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83769"/>
        <c:crosses val="autoZero"/>
        <c:auto val="1"/>
        <c:lblAlgn val="ctr"/>
        <c:lblOffset val="100"/>
        <c:noMultiLvlLbl val="0"/>
      </c:catAx>
      <c:valAx>
        <c:axId val="98883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21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F64-36C7-48F2-87C9-CF88701F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3E9-5A94-49C6-9A27-ED814740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2B2-5C69-48B0-BC1C-BC283295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C42-2A57-42AF-A1F2-7E510BCB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88C-663B-4B96-BA0F-EE35340B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973-4A97-4480-A766-63639229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4CB-F080-49A5-BC12-7F3F2430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B40-DE63-4582-B588-F0EDF822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7F1-B31F-489F-8BB8-D6950120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56D-61F7-4972-BF4F-2CB7087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740-C89E-4CB3-B058-BEEC7512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0A0-EF0F-43AC-8F21-B1AEAA2C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C2CD1-3C8B-41A8-8C5E-39521069B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