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1021"/>
        <c:axId val="42927227"/>
      </c:barChart>
      <c:catAx>
        <c:axId val="1371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27227"/>
        <c:crosses val="autoZero"/>
        <c:auto val="1"/>
        <c:lblAlgn val="ctr"/>
        <c:lblOffset val="100"/>
        <c:noMultiLvlLbl val="0"/>
      </c:catAx>
      <c:valAx>
        <c:axId val="42927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1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B83-39F2-4075-BDB9-F0D8B699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B2B-6799-4104-AF48-6BA5FA39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4B6-536D-44E4-8387-50D3729D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889-94E3-46B0-BB18-F1A9FE6F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124-177F-49DB-A731-BD63415A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52D-E029-4167-A751-D512B66F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4E3-3EB5-43B3-8D17-BA3CD152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BB3-0670-417C-8D3B-1ECAC6FE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FE9-9A87-45D7-AB3A-C513E4DE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6B1-9BD0-4E63-95B2-1AA8F71D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6F3-03F0-4478-BDA4-653EDB3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3DF-4044-41D1-93D6-855498E0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8C213-7FF6-4AC6-9808-1BEF0F2DB9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