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99189"/>
        <c:axId val="46026926"/>
      </c:barChart>
      <c:catAx>
        <c:axId val="58099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26926"/>
        <c:crosses val="autoZero"/>
        <c:auto val="1"/>
        <c:lblAlgn val="ctr"/>
        <c:lblOffset val="100"/>
        <c:noMultiLvlLbl val="0"/>
      </c:catAx>
      <c:valAx>
        <c:axId val="46026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99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7B9-9BA3-4097-B468-D45DB7B8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D85-8B68-4C97-984C-9ECC1D0C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F0E-66D1-420A-9D5C-3C973A6B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149-CEFB-49D0-95D7-B3045957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D32-4F88-4274-9131-32DAB46D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B7B-DC6A-4F83-A89E-4690D276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A9F-EDEC-431C-BC42-13EB2F73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B87-5714-4143-938D-4414EE36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5E1-1957-4C9E-8B86-37320440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E69-92EE-409C-82E6-8B3387AD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148-B650-4EA5-9D0B-A8B4F22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20E-DFD8-400A-A0F1-1626DB3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7ED15-01F3-47F9-A185-242358A3A8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