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1420291"/>
        <c:axId val="28077128"/>
      </c:barChart>
      <c:catAx>
        <c:axId val="3142029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077128"/>
        <c:crosses val="autoZero"/>
        <c:auto val="1"/>
        <c:lblAlgn val="ctr"/>
        <c:lblOffset val="100"/>
        <c:noMultiLvlLbl val="0"/>
      </c:catAx>
      <c:valAx>
        <c:axId val="2807712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42029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E83C2-7A8F-40A7-BE49-E01727061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E9077-EE85-498A-B019-F9BDA968F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E6588-4D04-49DA-9BBC-DB7B75659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B5331-E604-494E-8F77-6F5D23559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492AE-4770-4D69-8471-FAEF69783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0719D-4791-4CA7-BF0C-0E3C62A6A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C3EAC-E233-4C31-BFC0-0C5C06AB2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8D4B0-969A-4ACB-9373-527C47553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94A32-F87B-4EC8-B50A-81F27ED80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026F7-362C-4077-A33F-4C3C55777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CB137-EDE4-4DDB-AD3D-D224789F9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08469-365D-4BA0-A0D2-61C7364C6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A2496F-BD88-45B6-AE64-8CE7D456DE5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