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329534"/>
        <c:axId val="9636628"/>
      </c:barChart>
      <c:catAx>
        <c:axId val="133295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6628"/>
        <c:crosses val="autoZero"/>
        <c:auto val="1"/>
        <c:lblAlgn val="ctr"/>
        <c:lblOffset val="100"/>
        <c:noMultiLvlLbl val="0"/>
      </c:catAx>
      <c:valAx>
        <c:axId val="96366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295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B0C9-A549-47EF-B39E-82B8BBD54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A7E2-107D-4219-9F7A-93B78998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CC6F-987A-4D3F-83B0-DC98498E7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AF7E-4B3F-432D-AE04-00278A016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349E-F320-446F-A4E2-C1BEF414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BAED-7BD6-4BC1-95F1-5DCAE76B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34FB-27FA-49ED-AB74-EFD87D0B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7862-D821-423B-931B-9C3E01A2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4899-E5B9-49C5-8258-A4FBD1F7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C81E-58F6-41EC-BF96-F68279A7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5BE7-6434-45A4-9A1C-ABCEE121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BAAD-8934-46CB-8159-7BB3A8A1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31463-3EDA-40F3-B360-C6D32E8677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