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076"/>
        <c:axId val="70186994"/>
      </c:barChart>
      <c:catAx>
        <c:axId val="189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86994"/>
        <c:crosses val="autoZero"/>
        <c:auto val="1"/>
        <c:lblAlgn val="ctr"/>
        <c:lblOffset val="100"/>
        <c:noMultiLvlLbl val="0"/>
      </c:catAx>
      <c:valAx>
        <c:axId val="70186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D44-A7F7-4131-BE1C-30DCF5A8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0B1-DD9D-40AC-8B78-A04A6551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723-5458-4603-90AD-702619F5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5B7-5B5F-4D8A-B127-1F974E88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198-DC8A-4B2C-9157-39D2FA91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AEC-0469-40BA-AB12-6CFBA67B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467-5543-459D-A2CC-967117C8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D44-1038-4A16-BF86-7D9EBE94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5AD-EA5A-4375-8ED1-50486128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BD7-959C-41DF-BCE0-8201A4C7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899-DD5C-49FB-9045-A55C06AE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D42-BBBD-494A-A3F8-6F4FE172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A3692-6971-4FAC-9ED9-07701E803C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