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843957"/>
        <c:axId val="20935014"/>
      </c:barChart>
      <c:catAx>
        <c:axId val="938439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935014"/>
        <c:crosses val="autoZero"/>
        <c:auto val="1"/>
        <c:lblAlgn val="ctr"/>
        <c:lblOffset val="100"/>
        <c:noMultiLvlLbl val="0"/>
      </c:catAx>
      <c:valAx>
        <c:axId val="209350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8439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A216-D157-484B-8472-A02257CC6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3736-2ED6-4DD2-A1B5-8FBD1D434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B18D-DE5C-480F-9D98-852622BA0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82AD-C5D1-4550-AAF1-3C80E72E4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204B-58BB-4981-9870-2D879A598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3307-C7F2-4B7C-AB73-3FBEF272C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0F03-C93F-4B85-9F5D-539DC045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1B4D-9FF2-4A5A-AB7A-8E49612A7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A69F-DAF3-4E78-BB6D-136FAAC95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B2E8-DADF-4A97-B6F1-CB4A81E0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2930-D8DB-4E45-996E-BC1F74FC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143C-38FC-4DCD-B5E6-C642930A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EE89A9-8B52-43EB-AAC5-9F643C9A0D9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