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733973"/>
        <c:axId val="69588337"/>
      </c:barChart>
      <c:catAx>
        <c:axId val="27733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88337"/>
        <c:crosses val="autoZero"/>
        <c:auto val="1"/>
        <c:lblAlgn val="ctr"/>
        <c:lblOffset val="100"/>
        <c:noMultiLvlLbl val="0"/>
      </c:catAx>
      <c:valAx>
        <c:axId val="695883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33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753E-1C73-4783-9063-0674E6D6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53E-6EF8-49DB-BD43-F5934B84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F09-461F-448B-9419-E55168F4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5C07-30C7-4641-9C30-8C0D706A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3D8B-4358-44CD-9E9A-155B4186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11DF-F02B-4CDD-BBE3-FCCF321E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8ABE-9AA0-462E-A743-C6BA8DF9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2C5-E73F-4723-A74F-8BFF3FDA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432-472D-41C6-9781-B7FFCF45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2951-EFFF-4A24-A456-CFBEF7C1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3CC7-3166-4EBF-8E64-F866B8A0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C2C3-066D-48AF-9612-E8CF87F5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53EFF-46DD-4792-BD7E-080CFA835B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