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83364"/>
        <c:axId val="97400177"/>
      </c:barChart>
      <c:catAx>
        <c:axId val="15183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00177"/>
        <c:crosses val="autoZero"/>
        <c:auto val="1"/>
        <c:lblAlgn val="ctr"/>
        <c:lblOffset val="100"/>
        <c:noMultiLvlLbl val="0"/>
      </c:catAx>
      <c:valAx>
        <c:axId val="97400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83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FB6-A164-427B-A90E-B557AFE2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631-C26C-4899-8AB8-B131EE17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E12-5A10-4615-9755-3455D032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750-37FF-414B-A7BC-ACE61234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6AB-B380-4B3D-868B-C76F5D3A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298-98B5-49E7-8C8B-9B28F01C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7C9-D233-4DFE-83C3-516D76AC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038-7644-46E8-A413-1954BB12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1CF-40AB-43B7-9A92-5519EFD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E9B-67C3-4D00-AF19-DE3086B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250-4EC6-4D3F-8F3E-311E071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BBF-B369-433D-8C24-8238320D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0E8BB-D6F0-49B0-8945-FB8CC1EDC8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