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260550"/>
        <c:axId val="32592075"/>
      </c:barChart>
      <c:catAx>
        <c:axId val="592605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92075"/>
        <c:crosses val="autoZero"/>
        <c:auto val="1"/>
        <c:lblAlgn val="ctr"/>
        <c:lblOffset val="100"/>
        <c:noMultiLvlLbl val="0"/>
      </c:catAx>
      <c:valAx>
        <c:axId val="32592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605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5FC-6676-4E5C-A157-5D9D6F1E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538-49D6-4B45-A919-5A456B56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E57F-F547-4596-A7F8-AC1C3299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FFF-D381-43FA-9BDF-C1BFA4B1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711-8101-4AB4-85F7-977E921C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D7F9-A346-4F73-9EBA-A53E0684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B96D-DD51-4899-8D73-2414E86C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4C3-BF47-46F5-9F93-4381FA22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4A69-4B7D-48C4-89FC-4B708209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B97B-E4A1-4A86-A207-D82CA4B0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27A-C4ED-4610-86DC-24CBA6F1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1E2-5A06-4CA2-9F81-31857889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0121F-C0C7-4B1E-B85F-DC9A6D6C7A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