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391323"/>
        <c:axId val="58027720"/>
      </c:barChart>
      <c:catAx>
        <c:axId val="939132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027720"/>
        <c:crosses val="autoZero"/>
        <c:auto val="1"/>
        <c:lblAlgn val="ctr"/>
        <c:lblOffset val="100"/>
        <c:noMultiLvlLbl val="0"/>
      </c:catAx>
      <c:valAx>
        <c:axId val="5802772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9132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7061-E755-4566-A602-D2315213F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8505-6EF7-4A2A-B9ED-3144D3B0A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ED7D-090D-4F01-B39C-AFAECBE72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8D12-2259-4AD2-B1A2-377B8E764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CACE-3EAA-4CB2-AE43-ABBE30D0C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9F80-E0AC-4029-83B6-3F230E711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472E-6951-4726-9355-E3E6F8CFF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40A0-73A0-405C-9F7A-D6297483A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FE60-EB42-4B3E-8510-C51EB0EAB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5D49-F2F0-4E35-B2FB-FE0F7C1B5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401D-B289-4027-BE6A-FF4A8EFE8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B30D-39AB-4332-B774-8AB4D49EF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48C4F2-0CA9-4E44-A3FB-E493FF403E4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