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37214"/>
        <c:axId val="57754482"/>
      </c:barChart>
      <c:catAx>
        <c:axId val="47337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54482"/>
        <c:crosses val="autoZero"/>
        <c:auto val="1"/>
        <c:lblAlgn val="ctr"/>
        <c:lblOffset val="100"/>
        <c:noMultiLvlLbl val="0"/>
      </c:catAx>
      <c:valAx>
        <c:axId val="57754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37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F5D-67FC-4F88-8122-5B8A511C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0A2-7BE5-4AE8-86D2-A17AACCD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937-5569-466B-8AA1-082C4CE5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B68-C104-409E-8FB1-6C4F92E0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4A2-9D5B-40AA-95ED-4393EF90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B19-E2BE-4C59-A191-3DD99FF5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38D-248E-4532-9D36-5EF6D99B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5AE-B11B-45C2-AC08-B2733920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BF7-92AD-48C7-A883-174240C3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A17-C32F-48D5-A41F-C4A0FA80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EC0-1647-4CBC-B4F1-CC898564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EA8-C30C-4817-8090-CF4BFDB3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1847B-B653-405F-885C-A81EE578E1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