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92494"/>
        <c:axId val="47146391"/>
      </c:barChart>
      <c:catAx>
        <c:axId val="71592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46391"/>
        <c:crosses val="autoZero"/>
        <c:auto val="1"/>
        <c:lblAlgn val="ctr"/>
        <c:lblOffset val="100"/>
        <c:noMultiLvlLbl val="0"/>
      </c:catAx>
      <c:valAx>
        <c:axId val="47146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92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009-11FC-4522-8451-66ABF6E9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7DE-BCA0-49AF-81A0-B2406031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1F5-4910-4DB5-BC4B-DBAEA58B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22B-5FF4-493C-95A4-8F671733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D4F-CB5C-41E2-B318-3FF7FC8E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962-500F-42EB-98E6-0F7AC52A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220-1D23-4AA9-B0EC-EBDB6FF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2CB-5F85-446D-82C0-DF3CFAE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165-4695-45F2-8BEA-288FB8C7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10C-D942-420E-AF30-21F2B65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FEF-B733-4F53-A6DB-EC8F631A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AB7-ECCF-4C5C-9C51-4E7A22A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9C51-F92B-4B8C-97EC-A3BA0E2A8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