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579199"/>
        <c:axId val="74295476"/>
      </c:barChart>
      <c:catAx>
        <c:axId val="535791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295476"/>
        <c:crosses val="autoZero"/>
        <c:auto val="1"/>
        <c:lblAlgn val="ctr"/>
        <c:lblOffset val="100"/>
        <c:noMultiLvlLbl val="0"/>
      </c:catAx>
      <c:valAx>
        <c:axId val="742954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5791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931E-E0E7-4A15-83DE-E5C6270B7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276E-BE4A-489D-9E1F-9E6EE5DB1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EEE4-1ECC-4A0E-B925-E61B6B95D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03BD-1EB2-4155-8B12-78B36FFD1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8F5A-87B3-4CDA-BE8A-CBE91E3A4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24C1-CD89-4C30-A8C9-393849D2B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47B0-C7BF-4E8E-87D0-579B69EF7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03D8-E71F-4AC6-B5BE-2C9159A7F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BEBD-67A5-4F01-B647-9F996F47C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9B22-5267-44C0-9F97-2C12E9142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E7B4-AE21-413D-A399-0230F59AF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5AEB-B7CA-40C1-9793-B6075E69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50EF49-839E-4B2C-9C26-C88A27548B2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