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76454"/>
        <c:axId val="36321496"/>
      </c:barChart>
      <c:catAx>
        <c:axId val="31576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21496"/>
        <c:crosses val="autoZero"/>
        <c:auto val="1"/>
        <c:lblAlgn val="ctr"/>
        <c:lblOffset val="100"/>
        <c:noMultiLvlLbl val="0"/>
      </c:catAx>
      <c:valAx>
        <c:axId val="36321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76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0A8-C952-4FD5-8AF2-14ABACB2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790-4B7C-4EA4-945B-9CC609FF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F9C-1C62-44F5-8F2D-AC0E4AFE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160-3CEB-4228-B586-61A94971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EC2-0468-427D-8E92-44E757F8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BAC-AF57-4F0A-A732-586A8AF2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D14E-E8E9-43CD-859D-F6D8AE53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E27-295E-48D4-A460-F43E209D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AE5-E2BC-4576-B031-6745F2F6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26B-609A-4B0E-A7C5-824C964E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67F-7347-4DF6-AB7A-D75B84A2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F0E-8A7B-45DE-8FC9-EB9857A0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8A3EB-FAFC-4BE1-B285-CC46A5E289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