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6265"/>
        <c:axId val="27143614"/>
      </c:barChart>
      <c:catAx>
        <c:axId val="8386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43614"/>
        <c:crosses val="autoZero"/>
        <c:auto val="1"/>
        <c:lblAlgn val="ctr"/>
        <c:lblOffset val="100"/>
        <c:noMultiLvlLbl val="0"/>
      </c:catAx>
      <c:valAx>
        <c:axId val="27143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6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76C-1537-47DB-88BC-13BF20C8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80A2-D9C3-47F5-B0C7-B01E43FC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8494-B019-4CA1-BEF3-2399A78E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C7F3-1DD4-44CB-812D-ED3CBD25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29F4-FCA8-4B10-9465-DADA2F66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3080-C5F1-47B7-A503-8099BA1C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2AF2-66A7-4351-A6E9-E0107B66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3E76-E5F7-40C9-BC1E-2BA7DA1A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CED5-F281-4A0E-8544-2BA3F84B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4D34-9599-48C5-9697-8372A05E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F1F6-E004-4E6E-8567-EB326457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D6E9-D276-4224-9D37-5EC1FF80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D0CE8-4C9C-40BA-9DB3-C7CDB44199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