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16372"/>
        <c:axId val="24876105"/>
      </c:barChart>
      <c:catAx>
        <c:axId val="40016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76105"/>
        <c:crosses val="autoZero"/>
        <c:auto val="1"/>
        <c:lblAlgn val="ctr"/>
        <c:lblOffset val="100"/>
        <c:noMultiLvlLbl val="0"/>
      </c:catAx>
      <c:valAx>
        <c:axId val="24876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16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E96-FC2D-411C-ADE2-9A61C43E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074-19A2-4D34-A7D6-10AA2ABA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53B-EFBA-427C-B66A-9C896765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E72-09C3-4772-A3B3-65C6F9D5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33E-E05A-4B05-AB17-007B9410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2A6-129D-46D8-A8A0-007C5DCF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D48-B394-4299-A2BB-C7A2A5A3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9E5-A8D3-4B45-BBFD-305010CA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481-B6FD-4BCD-8655-7531F195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6D8-BB22-4580-972E-9B0A8E4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EDE-F985-4521-A29B-6F61CD77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85F-C3A8-4A8D-8E4D-8B733A9F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CE3EE-07CF-4E8A-9184-294157756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