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98183"/>
        <c:axId val="74281502"/>
      </c:barChart>
      <c:catAx>
        <c:axId val="23098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81502"/>
        <c:crosses val="autoZero"/>
        <c:auto val="1"/>
        <c:lblAlgn val="ctr"/>
        <c:lblOffset val="100"/>
        <c:noMultiLvlLbl val="0"/>
      </c:catAx>
      <c:valAx>
        <c:axId val="74281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8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667-31DB-4EB6-ABBC-ED0F7024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93A-5F2A-4739-95C3-80614F31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ADF-9319-4C1B-B93C-DA8602156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1A8-55C3-40D0-B742-C1248CDF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1FB-D866-40C4-AE53-25A14EBF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778-7853-402E-AD2C-78322DA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596-55F9-4256-B3FD-38AC6891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E6D-49DD-4F50-8B49-B368A5B7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99A-AB17-4074-BD67-5953CD81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AC4-6941-4864-B734-5968B0E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0CE-3DE8-488E-A7F4-4CDA29E6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771-BD46-43E7-A574-37C0C5C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284FB-C2B9-4AC7-98F2-20205E95A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