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6756902"/>
        <c:axId val="69538852"/>
      </c:barChart>
      <c:catAx>
        <c:axId val="8675690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538852"/>
        <c:crosses val="autoZero"/>
        <c:auto val="1"/>
        <c:lblAlgn val="ctr"/>
        <c:lblOffset val="100"/>
        <c:noMultiLvlLbl val="0"/>
      </c:catAx>
      <c:valAx>
        <c:axId val="6953885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75690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9ABF8-C92A-4D2C-A66A-2CB481A52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15266-18A9-4A56-8A20-F90FD0A32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5CBEA-3CAA-4CF5-B1B4-99DE9FB9F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5762A-B665-4748-9A3B-9F5742C71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314C5-8EA8-4B50-9FCF-515CFF930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0979B-719E-4CF5-99CA-799E8CDEF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5D8F7-45BC-444D-9EA4-F7549ED86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7B020-6DF3-4E47-8B86-9AE143876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B719F-141B-483A-A605-06753CDE4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F79F2-81A3-4C01-B2A6-FB1589D12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D1EE0-3883-4D25-A9B7-5461A8401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F9B30-6037-4FF5-A5F4-D9DC166EC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AE7342-B9EE-4825-BE49-6EFDB7F999D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