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9526"/>
        <c:axId val="65813032"/>
      </c:barChart>
      <c:catAx>
        <c:axId val="36195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13032"/>
        <c:crosses val="autoZero"/>
        <c:auto val="1"/>
        <c:lblAlgn val="ctr"/>
        <c:lblOffset val="100"/>
        <c:noMultiLvlLbl val="0"/>
      </c:catAx>
      <c:valAx>
        <c:axId val="658130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95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AB7-6D48-4CA8-8E6D-6E4FA911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6AF-F1DB-4353-9299-BF1C1A4A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7CC4-5C55-4A5D-938A-7B21F7D9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D06-FD62-4A80-8CFB-0BFB4803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BC86-AA30-4641-AC28-FA902684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6AD8-C1FF-4BEC-A491-D1135B1E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402-75B8-40A8-8E74-E919303E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2F9-0F03-498D-A553-115A12D3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A9F-5C3F-43CA-A217-65D5ED48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174-0811-48BB-85B4-725CFCB5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60A0-1475-4395-8A3D-EF5DE6C3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59D-1D24-4B9E-A24A-D6131593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20481-6362-4E91-810D-354D2C3940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